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178-87B9-4D08-B998-09ED6030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C18-3456-472F-91A8-981807D0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484-5E8D-458E-886E-EC20FBC4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944-BAB4-4165-89AB-83E2BDD0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C16-AA74-4D52-9CC2-F339D74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11E-401E-46F5-9DA0-AD39969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F3A-B8AF-4FF9-A5FF-704B40F8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22A-4E22-4DB4-9FC5-83A3961C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935-4669-4886-BBCD-84F758C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AE3-AD97-4291-BFFE-91EF43E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A51-B3B0-45A0-9351-FD7C032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C8F-ACA5-4046-B1C0-F9BBB655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4EBD-37CC-49E7-B8BD-ACE1118BE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6/De_Morgan_Medea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torian Era Art and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aphae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0800" y="4191120"/>
            <a:ext cx="356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St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bert P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e Ethel S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Edward El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external image 7959-mystery-painting.jpg"/>
          <p:cNvPicPr/>
          <p:nvPr/>
        </p:nvPicPr>
        <p:blipFill>
          <a:blip r:embed="rId1"/>
          <a:stretch/>
        </p:blipFill>
        <p:spPr>
          <a:xfrm>
            <a:off x="609480" y="3124080"/>
            <a:ext cx="3657600" cy="333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De Morgan Mede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066680"/>
            <a:ext cx="1682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0:22:53Z</dcterms:created>
  <dc:creator>Don H</dc:creator>
  <dc:description/>
  <dc:language>en-US</dc:language>
  <cp:lastModifiedBy>Don H</cp:lastModifiedBy>
  <dcterms:modified xsi:type="dcterms:W3CDTF">2009-12-08T00:23:19Z</dcterms:modified>
  <cp:revision>1</cp:revision>
  <dc:subject/>
  <dc:title>Victorian Era Art and Music</dc:title>
</cp:coreProperties>
</file>